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9C6-3CBE-4BE6-8AC0-98AC34C9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BF2-EC1E-4DEC-A622-F83422D3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A0F-9CBB-4CF7-9B42-165808F1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1C2-6677-4433-995F-51EA6430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2549-4BFF-4D85-8BE0-0742131A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809-F546-4E35-A552-F724E24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A114-C2D5-46BD-905D-5619C2EB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7C21-EDDB-45D2-86E6-5FAECF6E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6E74-BEE7-47C5-8EAB-4350263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8A61-097F-4E27-9EE4-1048ED0E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886E-9EE9-4DBE-9405-0DCB3D3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0FD-F2E7-400D-B3EA-B5542EBF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3B33-E97F-4E8E-8E5E-00B9731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947B-93AD-45D7-9A54-6BAAD54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00D5-0E1B-479D-BBB5-8C1D517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C8B2-726D-4D60-B012-C5F6835F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5E05-2E33-4D2E-895A-AC1A3FC7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E66-3657-454F-82D4-09821CF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94E-DFFD-4303-890D-CB46D9EE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C19-140F-40F9-B4BD-31E1B82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6C3-924C-4404-9C33-318F8B19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DC6-9AC3-4322-A31B-021E89B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A07-B470-4E24-94C3-965B733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504-2568-4A5F-9FFE-4B8DE8B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2668-E564-4631-BBEE-715B349B0C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9B6F-B612-452F-82D1-EC067549DF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5b3b1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rebuchet MS"/>
              </a:rPr>
              <a:t>How to do Climographs for your Wikispace</a:t>
            </a:r>
            <a:endParaRPr b="0" lang="en-US" sz="4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9: Click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OK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when the dialogue box comes up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363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24280" y="5410080"/>
            <a:ext cx="1371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0: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Right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click on the blank page and select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Paste</a:t>
            </a:r>
            <a:r>
              <a:rPr b="0" i="1" lang="en-US" sz="36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1: Once copied, select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le =&gt;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Save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 As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12: Make sure to name it something appropriate and save it as a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JPEG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433520"/>
            <a:ext cx="6248160" cy="5424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81080" y="54864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57913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Step 13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You can now upload this picture to your wikipag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1: In Excel, enter the months in cells A2 through A13,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Precipitation in B1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, and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Temperature in C1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449360"/>
            <a:ext cx="75438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2: Take the numbers that you filled in on the Climate part of your research, and plug them into the excel sheet.  </a:t>
            </a:r>
            <a:r>
              <a:rPr b="1" i="1" lang="en-US" sz="2800" spc="-1" strike="noStrike">
                <a:solidFill>
                  <a:srgbClr val="ffff66"/>
                </a:solidFill>
                <a:latin typeface="Trebuchet MS"/>
              </a:rPr>
              <a:t>Remember do NOT put degrees or inches, only numbers.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1668600"/>
            <a:ext cx="723924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3: After filling in the temp. and precip., highlight everything and click on </a:t>
            </a:r>
            <a:r>
              <a:rPr b="1" i="1" lang="en-US" sz="3200" spc="-1" strike="noStrike">
                <a:solidFill>
                  <a:srgbClr val="ffff66"/>
                </a:solidFill>
                <a:latin typeface="Trebuchet MS"/>
              </a:rPr>
              <a:t>chart wizard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05320" y="1828800"/>
            <a:ext cx="30456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1905120"/>
            <a:ext cx="60948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4: Click on the </a:t>
            </a:r>
            <a:r>
              <a:rPr b="1" i="1" lang="en-US" sz="3200" spc="-1" strike="noStrike">
                <a:solidFill>
                  <a:srgbClr val="ffff66"/>
                </a:solidFill>
                <a:latin typeface="Trebuchet MS"/>
              </a:rPr>
              <a:t>Custom tab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, scroll down to </a:t>
            </a:r>
            <a:r>
              <a:rPr b="1" i="1" lang="en-US" sz="3200" spc="-1" strike="noStrike">
                <a:solidFill>
                  <a:srgbClr val="ffff66"/>
                </a:solidFill>
                <a:latin typeface="Trebuchet MS"/>
              </a:rPr>
              <a:t>Line-Column on 2 axes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, and click next twice. 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1558800"/>
            <a:ext cx="73915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Step 5: Fill in the Title of the chart with the city you are doing, </a:t>
            </a:r>
            <a:r>
              <a:rPr b="1" i="1" lang="en-US" sz="2400" spc="-1" strike="noStrike">
                <a:solidFill>
                  <a:srgbClr val="ffff66"/>
                </a:solidFill>
                <a:latin typeface="Trebuchet MS"/>
              </a:rPr>
              <a:t>the x-axis with “month,”</a:t>
            </a:r>
            <a:r>
              <a:rPr b="0" lang="en-US" sz="2400" spc="-1" strike="noStrike">
                <a:solidFill>
                  <a:srgbClr val="ffffcc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ffff66"/>
                </a:solidFill>
                <a:latin typeface="Trebuchet MS"/>
              </a:rPr>
              <a:t>the y-axis with “Precipitation,” the 2nd y-axis with “Temperature,” and leave the 2nd x-axis blank.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934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6: Choose that you want the chart located in a new sheet. Then click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nish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0773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7: 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Click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 on the chart to select it, then go to </a:t>
            </a: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Edit =&gt; Copy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8: Open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reworks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and go to </a:t>
            </a:r>
            <a:r>
              <a:rPr b="1" i="1" lang="en-US" sz="3600" spc="-1" strike="noStrike">
                <a:solidFill>
                  <a:srgbClr val="ffff66"/>
                </a:solidFill>
                <a:latin typeface="Trebuchet MS"/>
              </a:rPr>
              <a:t>File =&gt; New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4:21:48Z</dcterms:created>
  <dc:creator>Irving ISD</dc:creator>
  <dc:description/>
  <dc:language>en-US</dc:language>
  <cp:lastModifiedBy>Irving ISD</cp:lastModifiedBy>
  <dcterms:modified xsi:type="dcterms:W3CDTF">2008-02-29T14:53:14Z</dcterms:modified>
  <cp:revision>3</cp:revision>
  <dc:subject/>
  <dc:title>How to do Climographs for your Wikispace</dc:title>
</cp:coreProperties>
</file>